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884760" y="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8678880"/>
            <a:ext cx="2968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20AAF-1CEE-432D-A878-0D7201B1AF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3980F-93E5-4C73-A81C-C901D49A4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F944E-F066-4640-A4F3-530BB8AD0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39E5E-57AF-436C-A6BA-0FE6E93E07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7A9ED-9D81-44BE-8655-0D90EEDCF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160EA-CF60-44A3-9E49-607BDA9D24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1BCAF-625C-47E8-B235-593BE6B5DF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501D8-DA2F-42E6-A334-03E5629DD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32D8-5BD1-4F85-8459-1221F82BB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7D0B6-14FB-47D3-AB47-CC9C2618F9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92D7E-C209-46BD-A3B3-21877309C9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18DA-90B9-44A7-8EB4-11A1F431B0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00817-B2F9-4EC9-B239-860819E2AC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2D4F-EC23-47D6-A475-1C90646DA9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C4F98-1E77-49E2-99DF-8B4D16241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60AFD-C98C-481B-982A-252AA0A837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612EA-28AE-46BF-9032-108BB2F6C0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3471C-4385-4A82-89F5-97A00714FA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C5A1C-C6DF-40A9-B720-16AF5ECEC8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56DD1-3655-4E25-9794-EFD42FFAD9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3C9B3-6B45-4751-8B0B-B10071C176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6C0C9-987B-4039-95D2-95F049F8D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3F0AA-D662-4301-BA9A-484DD22C5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C29DC-3466-418F-96F6-617A5DCA2F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6AD40-9345-43CA-A0C8-A53AC463BD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0878A-4D81-4878-BD2F-924A4EEAB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846CF-6796-459D-9D7F-2C50893649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0675-DB19-4477-8248-055B2AB075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9E097-F735-46C1-90FE-A7D7CDC9A9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"/>
          <p:cNvSpPr/>
          <p:nvPr/>
        </p:nvSpPr>
        <p:spPr>
          <a:xfrm>
            <a:off x="114300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7B27-1875-4B3D-BD92-B57F3D5B2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A2C-686D-4797-9221-F99301C74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3E0E-DC4A-4B99-93CA-F42E8E316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2DAE-6C75-42FC-8DF5-156D66D29B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AF83-35C9-47A5-8623-CBF999F6E1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C441-BD97-487A-91FD-EA78D0BFA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716D-5106-4E8F-959B-13DB754BB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3FA98-88F3-41DA-9FF0-9BA42BA03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84360" y="250920"/>
            <a:ext cx="6191280" cy="54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628B-0FAB-480F-BA02-2DA5C6315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8AB8-E70A-4AAB-80E9-3D1534307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3FA5-6198-41FD-975E-172D983E0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E187-6F8C-48DF-B9DA-2908899FE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1EC01C-5F21-4997-A928-0369AE4FFDF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2"/>
          <a:stretch/>
        </p:blipFill>
        <p:spPr>
          <a:xfrm>
            <a:off x="1357200" y="714240"/>
            <a:ext cx="808200" cy="5716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3"/>
          <a:srcRect l="0" t="0" r="68866" b="0"/>
          <a:stretch/>
        </p:blipFill>
        <p:spPr>
          <a:xfrm>
            <a:off x="142920" y="189000"/>
            <a:ext cx="13683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Object 8"/>
          <p:cNvGraphicFramePr/>
          <p:nvPr/>
        </p:nvGraphicFramePr>
        <p:xfrm>
          <a:off x="285840" y="638280"/>
          <a:ext cx="714240" cy="71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5840" y="638280"/>
                    <a:ext cx="714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" name="Picture 9" descr=""/>
          <p:cNvPicPr/>
          <p:nvPr/>
        </p:nvPicPr>
        <p:blipFill>
          <a:blip r:embed="rId6"/>
          <a:stretch/>
        </p:blipFill>
        <p:spPr>
          <a:xfrm>
            <a:off x="1428840" y="88920"/>
            <a:ext cx="890640" cy="55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6D10D-0FB9-4F89-BF2F-B58E582A28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687240" y="1916280"/>
            <a:ext cx="7772400" cy="197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velopment of tools for the analysis and visualisation of second generation sequencing data for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122560" y="4456080"/>
            <a:ext cx="49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 Du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versity of Queensland,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.Duran@uq.edu.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9081A-E38D-4678-905A-91E04D3F72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-based tool for short read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hort reads stored 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uploads quer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flora.acpfg.com.au/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isualising read pairs for comparative gen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357120" y="4714920"/>
            <a:ext cx="8501040" cy="28584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Straight Arrow Connector 29"/>
          <p:cNvCxnSpPr/>
          <p:nvPr/>
        </p:nvCxnSpPr>
        <p:spPr>
          <a:xfrm>
            <a:off x="571320" y="33577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33"/>
          <p:cNvCxnSpPr/>
          <p:nvPr/>
        </p:nvCxnSpPr>
        <p:spPr>
          <a:xfrm>
            <a:off x="2571840" y="3357720"/>
            <a:ext cx="286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19" name="Straight Connector 39"/>
          <p:cNvSpPr/>
          <p:nvPr/>
        </p:nvSpPr>
        <p:spPr>
          <a:xfrm>
            <a:off x="857160" y="3357720"/>
            <a:ext cx="1714680" cy="14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643040" y="314316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144880" y="302436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traight Connector 43"/>
          <p:cNvSpPr/>
          <p:nvPr/>
        </p:nvSpPr>
        <p:spPr>
          <a:xfrm flipH="1">
            <a:off x="1712520" y="3430440"/>
            <a:ext cx="1800" cy="128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44"/>
          <p:cNvSpPr/>
          <p:nvPr/>
        </p:nvSpPr>
        <p:spPr>
          <a:xfrm>
            <a:off x="1787760" y="392904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Straight Arrow Connector 45"/>
          <p:cNvCxnSpPr/>
          <p:nvPr/>
        </p:nvCxnSpPr>
        <p:spPr>
          <a:xfrm>
            <a:off x="428616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5" name="Straight Arrow Connector 46"/>
          <p:cNvCxnSpPr/>
          <p:nvPr/>
        </p:nvCxnSpPr>
        <p:spPr>
          <a:xfrm>
            <a:off x="6929280" y="2712600"/>
            <a:ext cx="286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26" name="Straight Connector 47"/>
          <p:cNvSpPr/>
          <p:nvPr/>
        </p:nvSpPr>
        <p:spPr>
          <a:xfrm>
            <a:off x="4572000" y="2712960"/>
            <a:ext cx="23572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716440" y="25002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49"/>
          <p:cNvSpPr/>
          <p:nvPr/>
        </p:nvSpPr>
        <p:spPr>
          <a:xfrm>
            <a:off x="6218640" y="2381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traight Connector 50"/>
          <p:cNvSpPr/>
          <p:nvPr/>
        </p:nvSpPr>
        <p:spPr>
          <a:xfrm>
            <a:off x="5786280" y="2786040"/>
            <a:ext cx="0" cy="1930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51"/>
          <p:cNvSpPr/>
          <p:nvPr/>
        </p:nvSpPr>
        <p:spPr>
          <a:xfrm>
            <a:off x="5861520" y="3524400"/>
            <a:ext cx="30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A79D2-373C-4A4E-81A6-4A8CA7C5E9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rcRect l="0" t="28129" r="2111" b="9997"/>
          <a:stretch/>
        </p:blipFill>
        <p:spPr>
          <a:xfrm>
            <a:off x="0" y="2286000"/>
            <a:ext cx="8750160" cy="228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rcRect l="3410" t="21878" r="2274" b="10625"/>
          <a:stretch/>
        </p:blipFill>
        <p:spPr>
          <a:xfrm>
            <a:off x="0" y="0"/>
            <a:ext cx="8966160" cy="2652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3"/>
          <a:srcRect l="6821" t="22814" r="0" b="11565"/>
          <a:stretch/>
        </p:blipFill>
        <p:spPr>
          <a:xfrm>
            <a:off x="0" y="4565520"/>
            <a:ext cx="8858160" cy="2221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000" y="1738440"/>
            <a:ext cx="1563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Chii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9000" y="3643200"/>
            <a:ext cx="1334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olerac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200" y="5952960"/>
            <a:ext cx="966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B. nig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B652A1-8BC9-492F-82A6-FC55E658CD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ome anno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Group 3"/>
          <p:cNvGrpSpPr/>
          <p:nvPr/>
        </p:nvGrpSpPr>
        <p:grpSpPr>
          <a:xfrm>
            <a:off x="185760" y="1773360"/>
            <a:ext cx="8467560" cy="1559160"/>
            <a:chOff x="185760" y="1773360"/>
            <a:chExt cx="8467560" cy="1559160"/>
          </a:xfrm>
        </p:grpSpPr>
        <p:pic>
          <p:nvPicPr>
            <p:cNvPr id="142" name="Picture 4" descr=""/>
            <p:cNvPicPr/>
            <p:nvPr/>
          </p:nvPicPr>
          <p:blipFill>
            <a:blip r:embed="rId1">
              <a:lum contrast="20000"/>
            </a:blip>
            <a:srcRect l="6457" t="12926" r="37767" b="17386"/>
            <a:stretch/>
          </p:blipFill>
          <p:spPr>
            <a:xfrm>
              <a:off x="714240" y="1924200"/>
              <a:ext cx="7629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>
              <a:off x="8348760" y="1973160"/>
              <a:ext cx="1440" cy="974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6"/>
            <p:cNvSpPr/>
            <p:nvPr/>
          </p:nvSpPr>
          <p:spPr>
            <a:xfrm>
              <a:off x="392400" y="2478240"/>
              <a:ext cx="3909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333000" y="218268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9760" y="1876320"/>
              <a:ext cx="4611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1076400" y="291456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594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291816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3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48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5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Text Box 13"/>
            <p:cNvSpPr/>
            <p:nvPr/>
          </p:nvSpPr>
          <p:spPr>
            <a:xfrm>
              <a:off x="559764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7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4"/>
            <p:cNvSpPr/>
            <p:nvPr/>
          </p:nvSpPr>
          <p:spPr>
            <a:xfrm>
              <a:off x="6931080" y="2914560"/>
              <a:ext cx="566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90,00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15"/>
            <p:cNvSpPr/>
            <p:nvPr/>
          </p:nvSpPr>
          <p:spPr>
            <a:xfrm>
              <a:off x="8016840" y="2914560"/>
              <a:ext cx="6364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107,00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Text Box 16"/>
            <p:cNvSpPr/>
            <p:nvPr/>
          </p:nvSpPr>
          <p:spPr>
            <a:xfrm>
              <a:off x="4224600" y="3111480"/>
              <a:ext cx="106164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Base pair (b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Text Box 17"/>
            <p:cNvSpPr/>
            <p:nvPr/>
          </p:nvSpPr>
          <p:spPr>
            <a:xfrm rot="16200000">
              <a:off x="-420840" y="2380320"/>
              <a:ext cx="143496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8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100" spc="-1" strike="noStrike">
                  <a:solidFill>
                    <a:srgbClr val="000000"/>
                  </a:solidFill>
                  <a:latin typeface="Arial"/>
                </a:rPr>
                <a:t>No. of aligned rea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18"/>
            <p:cNvSpPr/>
            <p:nvPr/>
          </p:nvSpPr>
          <p:spPr>
            <a:xfrm>
              <a:off x="552600" y="278460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468360" y="5734080"/>
            <a:ext cx="824544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High-covered regions of short reads and their corresponding annotation in a </a:t>
            </a:r>
            <a:r>
              <a:rPr b="1" i="1" lang="en-AU" sz="1200" spc="-1" strike="noStrike">
                <a:solidFill>
                  <a:srgbClr val="000000"/>
                </a:solidFill>
                <a:latin typeface="Arial"/>
              </a:rPr>
              <a:t>B. rapa</a:t>
            </a: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 BA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40720" y="3499200"/>
            <a:ext cx="7817400" cy="1117440"/>
            <a:chOff x="540720" y="3499200"/>
            <a:chExt cx="7817400" cy="1117440"/>
          </a:xfrm>
        </p:grpSpPr>
        <p:sp>
          <p:nvSpPr>
            <p:cNvPr id="159" name="Rectangle 21"/>
            <p:cNvSpPr/>
            <p:nvPr/>
          </p:nvSpPr>
          <p:spPr>
            <a:xfrm>
              <a:off x="2440080" y="3499200"/>
              <a:ext cx="90468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TIR-NBS-LR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22"/>
            <p:cNvSpPr/>
            <p:nvPr/>
          </p:nvSpPr>
          <p:spPr>
            <a:xfrm>
              <a:off x="1231920" y="3960720"/>
              <a:ext cx="7126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18511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24"/>
            <p:cNvSpPr/>
            <p:nvPr/>
          </p:nvSpPr>
          <p:spPr>
            <a:xfrm>
              <a:off x="1917720" y="3817800"/>
              <a:ext cx="3636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25"/>
            <p:cNvSpPr/>
            <p:nvPr/>
          </p:nvSpPr>
          <p:spPr>
            <a:xfrm>
              <a:off x="1748520" y="3628800"/>
              <a:ext cx="320760" cy="40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26"/>
            <p:cNvSpPr/>
            <p:nvPr/>
          </p:nvSpPr>
          <p:spPr>
            <a:xfrm>
              <a:off x="1816200" y="3625920"/>
              <a:ext cx="183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27"/>
            <p:cNvSpPr/>
            <p:nvPr/>
          </p:nvSpPr>
          <p:spPr>
            <a:xfrm>
              <a:off x="2352600" y="3825720"/>
              <a:ext cx="36720" cy="287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28"/>
            <p:cNvSpPr/>
            <p:nvPr/>
          </p:nvSpPr>
          <p:spPr>
            <a:xfrm>
              <a:off x="2249640" y="3626640"/>
              <a:ext cx="2509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el-GR" sz="1000" spc="-1" strike="noStrike">
                  <a:solidFill>
                    <a:srgbClr val="000000"/>
                  </a:solidFill>
                  <a:latin typeface="Times New Roman"/>
                </a:rPr>
                <a:t>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1994040" y="389268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0"/>
            <p:cNvSpPr/>
            <p:nvPr/>
          </p:nvSpPr>
          <p:spPr>
            <a:xfrm rot="10800000">
              <a:off x="2778120" y="3689280"/>
              <a:ext cx="7128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AutoShape 31"/>
            <p:cNvSpPr/>
            <p:nvPr/>
          </p:nvSpPr>
          <p:spPr>
            <a:xfrm>
              <a:off x="3341520" y="3824280"/>
              <a:ext cx="493920" cy="287280"/>
            </a:xfrm>
            <a:prstGeom prst="flowChartPredefinedProcess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AutoShape 32"/>
            <p:cNvSpPr/>
            <p:nvPr/>
          </p:nvSpPr>
          <p:spPr>
            <a:xfrm>
              <a:off x="4592520" y="3827520"/>
              <a:ext cx="493920" cy="287280"/>
            </a:xfrm>
            <a:prstGeom prst="flowChartPredefinedProcess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33"/>
            <p:cNvSpPr/>
            <p:nvPr/>
          </p:nvSpPr>
          <p:spPr>
            <a:xfrm rot="16200000">
              <a:off x="4564800" y="392508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AutoShape 34"/>
            <p:cNvSpPr/>
            <p:nvPr/>
          </p:nvSpPr>
          <p:spPr>
            <a:xfrm rot="5400000">
              <a:off x="4839480" y="3917160"/>
              <a:ext cx="287280" cy="10800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35"/>
            <p:cNvSpPr/>
            <p:nvPr/>
          </p:nvSpPr>
          <p:spPr>
            <a:xfrm>
              <a:off x="5234040" y="3894120"/>
              <a:ext cx="36360" cy="144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36"/>
            <p:cNvSpPr/>
            <p:nvPr/>
          </p:nvSpPr>
          <p:spPr>
            <a:xfrm>
              <a:off x="7632720" y="3817800"/>
              <a:ext cx="144360" cy="2876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AutoShape 37"/>
            <p:cNvSpPr/>
            <p:nvPr/>
          </p:nvSpPr>
          <p:spPr>
            <a:xfrm rot="5400000">
              <a:off x="7583040" y="3879720"/>
              <a:ext cx="287280" cy="144360"/>
            </a:xfrm>
            <a:prstGeom prst="flowChartExtra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38"/>
            <p:cNvSpPr/>
            <p:nvPr/>
          </p:nvSpPr>
          <p:spPr>
            <a:xfrm>
              <a:off x="3316680" y="4124520"/>
              <a:ext cx="5036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MuD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39"/>
            <p:cNvSpPr/>
            <p:nvPr/>
          </p:nvSpPr>
          <p:spPr>
            <a:xfrm>
              <a:off x="4595040" y="4131000"/>
              <a:ext cx="46872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0"/>
            <p:cNvSpPr/>
            <p:nvPr/>
          </p:nvSpPr>
          <p:spPr>
            <a:xfrm>
              <a:off x="7222320" y="4188240"/>
              <a:ext cx="960840" cy="19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AU" sz="900" spc="-1" strike="noStrike">
                  <a:solidFill>
                    <a:srgbClr val="000000"/>
                  </a:solidFill>
                  <a:latin typeface="Arial"/>
                </a:rPr>
                <a:t>Athila </a:t>
              </a: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solo LTR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9" name="AutoShape 41"/>
            <p:cNvCxnSpPr>
              <a:stCxn id="174" idx="2"/>
              <a:endCxn id="178" idx="0"/>
            </p:cNvCxnSpPr>
            <p:nvPr/>
          </p:nvCxnSpPr>
          <p:spPr>
            <a:xfrm flipH="1">
              <a:off x="7701840" y="4105440"/>
              <a:ext cx="3960" cy="7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0" name="Rectangle 42"/>
            <p:cNvSpPr/>
            <p:nvPr/>
          </p:nvSpPr>
          <p:spPr>
            <a:xfrm>
              <a:off x="1783440" y="4264920"/>
              <a:ext cx="4762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(AT)</a:t>
              </a:r>
              <a:r>
                <a:rPr b="0" lang="en-AU" sz="9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1" name="AutoShape 43"/>
            <p:cNvCxnSpPr>
              <a:stCxn id="167" idx="2"/>
              <a:endCxn id="180" idx="0"/>
            </p:cNvCxnSpPr>
            <p:nvPr/>
          </p:nvCxnSpPr>
          <p:spPr>
            <a:xfrm>
              <a:off x="2013120" y="4037040"/>
              <a:ext cx="8640" cy="226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2" name="Rectangle 44"/>
            <p:cNvSpPr/>
            <p:nvPr/>
          </p:nvSpPr>
          <p:spPr>
            <a:xfrm>
              <a:off x="4960080" y="4243320"/>
              <a:ext cx="58932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C/T-rich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76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900" spc="-1" strike="noStrike">
                  <a:solidFill>
                    <a:srgbClr val="000000"/>
                  </a:solidFill>
                  <a:latin typeface="Arial"/>
                </a:rPr>
                <a:t>regi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3" name="AutoShape 45"/>
            <p:cNvCxnSpPr>
              <a:stCxn id="173" idx="2"/>
              <a:endCxn id="182" idx="0"/>
            </p:cNvCxnSpPr>
            <p:nvPr/>
          </p:nvCxnSpPr>
          <p:spPr>
            <a:xfrm>
              <a:off x="5252760" y="4038480"/>
              <a:ext cx="396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84" name="Text Box 46"/>
            <p:cNvSpPr/>
            <p:nvPr/>
          </p:nvSpPr>
          <p:spPr>
            <a:xfrm>
              <a:off x="540720" y="3809880"/>
              <a:ext cx="651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Repeat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7"/>
          <p:cNvGrpSpPr/>
          <p:nvPr/>
        </p:nvGrpSpPr>
        <p:grpSpPr>
          <a:xfrm>
            <a:off x="540360" y="4668840"/>
            <a:ext cx="7943760" cy="752400"/>
            <a:chOff x="540360" y="4668840"/>
            <a:chExt cx="7943760" cy="752400"/>
          </a:xfrm>
        </p:grpSpPr>
        <p:sp>
          <p:nvSpPr>
            <p:cNvPr id="186" name="Line 48"/>
            <p:cNvSpPr/>
            <p:nvPr/>
          </p:nvSpPr>
          <p:spPr>
            <a:xfrm>
              <a:off x="1209600" y="4940280"/>
              <a:ext cx="7126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49"/>
            <p:cNvSpPr/>
            <p:nvPr/>
          </p:nvSpPr>
          <p:spPr>
            <a:xfrm>
              <a:off x="1244520" y="4807080"/>
              <a:ext cx="158760" cy="287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50"/>
            <p:cNvSpPr/>
            <p:nvPr/>
          </p:nvSpPr>
          <p:spPr>
            <a:xfrm rot="10800000">
              <a:off x="1455480" y="4816440"/>
              <a:ext cx="331560" cy="287280"/>
            </a:xfrm>
            <a:custGeom>
              <a:avLst/>
              <a:gdLst>
                <a:gd name="textAreaLeft" fmla="*/ 0 w 331560"/>
                <a:gd name="textAreaRight" fmla="*/ 331920 w 331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AutoShape 51"/>
            <p:cNvSpPr/>
            <p:nvPr/>
          </p:nvSpPr>
          <p:spPr>
            <a:xfrm rot="10800000">
              <a:off x="2073240" y="4816440"/>
              <a:ext cx="216000" cy="28728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AutoShape 52"/>
            <p:cNvSpPr/>
            <p:nvPr/>
          </p:nvSpPr>
          <p:spPr>
            <a:xfrm>
              <a:off x="2408400" y="4800600"/>
              <a:ext cx="287280" cy="28728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AutoShape 53"/>
            <p:cNvSpPr/>
            <p:nvPr/>
          </p:nvSpPr>
          <p:spPr>
            <a:xfrm rot="10800000">
              <a:off x="2719080" y="4819680"/>
              <a:ext cx="323640" cy="28728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AutoShape 54"/>
            <p:cNvSpPr/>
            <p:nvPr/>
          </p:nvSpPr>
          <p:spPr>
            <a:xfrm>
              <a:off x="3063960" y="4803840"/>
              <a:ext cx="36360" cy="2872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AutoShape 55"/>
            <p:cNvSpPr/>
            <p:nvPr/>
          </p:nvSpPr>
          <p:spPr>
            <a:xfrm rot="10800000">
              <a:off x="3112560" y="4819680"/>
              <a:ext cx="173160" cy="287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AutoShape 56"/>
            <p:cNvSpPr/>
            <p:nvPr/>
          </p:nvSpPr>
          <p:spPr>
            <a:xfrm rot="10800000">
              <a:off x="3914640" y="4819680"/>
              <a:ext cx="68400" cy="287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AutoShape 57"/>
            <p:cNvSpPr/>
            <p:nvPr/>
          </p:nvSpPr>
          <p:spPr>
            <a:xfrm rot="10800000">
              <a:off x="4067280" y="4819680"/>
              <a:ext cx="280800" cy="28728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58"/>
            <p:cNvSpPr/>
            <p:nvPr/>
          </p:nvSpPr>
          <p:spPr>
            <a:xfrm rot="10800000">
              <a:off x="4430880" y="4819680"/>
              <a:ext cx="85680" cy="2872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59"/>
            <p:cNvSpPr/>
            <p:nvPr/>
          </p:nvSpPr>
          <p:spPr>
            <a:xfrm>
              <a:off x="5272200" y="4799160"/>
              <a:ext cx="223560" cy="28728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AutoShape 60"/>
            <p:cNvSpPr/>
            <p:nvPr/>
          </p:nvSpPr>
          <p:spPr>
            <a:xfrm rot="10800000">
              <a:off x="5527800" y="4816440"/>
              <a:ext cx="295200" cy="287280"/>
            </a:xfrm>
            <a:custGeom>
              <a:avLst/>
              <a:gdLst>
                <a:gd name="textAreaLeft" fmla="*/ 0 w 295200"/>
                <a:gd name="textAreaRight" fmla="*/ 295200 w 2952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AutoShape 61"/>
            <p:cNvSpPr/>
            <p:nvPr/>
          </p:nvSpPr>
          <p:spPr>
            <a:xfrm rot="10800000">
              <a:off x="5872320" y="4816440"/>
              <a:ext cx="1690560" cy="287280"/>
            </a:xfrm>
            <a:custGeom>
              <a:avLst/>
              <a:gdLst>
                <a:gd name="textAreaLeft" fmla="*/ 0 w 1690560"/>
                <a:gd name="textAreaRight" fmla="*/ 1690920 w 16905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AutoShape 62"/>
            <p:cNvSpPr/>
            <p:nvPr/>
          </p:nvSpPr>
          <p:spPr>
            <a:xfrm>
              <a:off x="8032680" y="4800600"/>
              <a:ext cx="258840" cy="2872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 rot="10800000">
              <a:off x="2755440" y="4668840"/>
              <a:ext cx="71640" cy="287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64"/>
            <p:cNvSpPr/>
            <p:nvPr/>
          </p:nvSpPr>
          <p:spPr>
            <a:xfrm>
              <a:off x="6878520" y="5259240"/>
              <a:ext cx="216000" cy="1447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7047720" y="5211720"/>
              <a:ext cx="14364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Predicted genic reg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 Box 66"/>
            <p:cNvSpPr/>
            <p:nvPr/>
          </p:nvSpPr>
          <p:spPr>
            <a:xfrm>
              <a:off x="540360" y="4815000"/>
              <a:ext cx="5540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6000"/>
                </a:lnSpc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AU" sz="1000" spc="-1" strike="noStrike">
                  <a:solidFill>
                    <a:srgbClr val="000000"/>
                  </a:solidFill>
                  <a:latin typeface="Arial"/>
                </a:rPr>
                <a:t>Gen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E17BF-D673-4C0B-B37F-06924149D2C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5760" y="1598760"/>
            <a:ext cx="80373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t">
            <a:noAutofit/>
          </a:bodyPr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inding the genes for the tra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tabLst>
                <a:tab algn="l" pos="0"/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9640" indent="-19368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gration of genetic data with genomic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158760">
              <a:lnSpc>
                <a:spcPct val="8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523440"/>
                <a:tab algn="l" pos="9883800"/>
                <a:tab algn="l" pos="10333080"/>
                <a:tab algn="l" pos="1078236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apping of QTL regions to genom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539640" y="5734080"/>
            <a:ext cx="6659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spcBef>
                <a:spcPts val="462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AU" sz="1300" spc="-1" strike="noStrike">
                <a:solidFill>
                  <a:srgbClr val="000000"/>
                </a:solidFill>
                <a:latin typeface="Arial"/>
                <a:ea typeface="Arial"/>
              </a:rPr>
              <a:t>Annot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396720" y="3851280"/>
            <a:ext cx="7920360" cy="18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4017-3739-43F6-A861-50384808CED3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17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From genetic to physical ma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500040" y="2214720"/>
            <a:ext cx="7286760" cy="142560"/>
          </a:xfrm>
          <a:prstGeom prst="rect">
            <a:avLst/>
          </a:prstGeom>
          <a:solidFill>
            <a:srgbClr val="a6a6a6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ight Arrow 11"/>
          <p:cNvSpPr/>
          <p:nvPr/>
        </p:nvSpPr>
        <p:spPr>
          <a:xfrm>
            <a:off x="642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ight Arrow 12"/>
          <p:cNvSpPr/>
          <p:nvPr/>
        </p:nvSpPr>
        <p:spPr>
          <a:xfrm flipH="1">
            <a:off x="999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ight Arrow 13"/>
          <p:cNvSpPr/>
          <p:nvPr/>
        </p:nvSpPr>
        <p:spPr>
          <a:xfrm>
            <a:off x="6429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ight Arrow 14"/>
          <p:cNvSpPr/>
          <p:nvPr/>
        </p:nvSpPr>
        <p:spPr>
          <a:xfrm flipH="1">
            <a:off x="32853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8571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17" descr="matches.png"/>
          <p:cNvPicPr/>
          <p:nvPr/>
        </p:nvPicPr>
        <p:blipFill>
          <a:blip r:embed="rId1"/>
          <a:stretch/>
        </p:blipFill>
        <p:spPr>
          <a:xfrm>
            <a:off x="928800" y="2957400"/>
            <a:ext cx="7358040" cy="2971800"/>
          </a:xfrm>
          <a:prstGeom prst="rect">
            <a:avLst/>
          </a:prstGeom>
          <a:ln w="0">
            <a:noFill/>
          </a:ln>
        </p:spPr>
      </p:pic>
      <p:sp>
        <p:nvSpPr>
          <p:cNvPr id="219" name="Right Arrow 18"/>
          <p:cNvSpPr/>
          <p:nvPr/>
        </p:nvSpPr>
        <p:spPr>
          <a:xfrm flipH="1">
            <a:off x="14281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19"/>
          <p:cNvSpPr/>
          <p:nvPr/>
        </p:nvSpPr>
        <p:spPr>
          <a:xfrm>
            <a:off x="17859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20"/>
          <p:cNvSpPr/>
          <p:nvPr/>
        </p:nvSpPr>
        <p:spPr>
          <a:xfrm flipH="1">
            <a:off x="17852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ight Arrow 21"/>
          <p:cNvSpPr/>
          <p:nvPr/>
        </p:nvSpPr>
        <p:spPr>
          <a:xfrm>
            <a:off x="22147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ight Arrow 23"/>
          <p:cNvSpPr/>
          <p:nvPr/>
        </p:nvSpPr>
        <p:spPr>
          <a:xfrm flipH="1">
            <a:off x="2785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ight Arrow 24"/>
          <p:cNvSpPr/>
          <p:nvPr/>
        </p:nvSpPr>
        <p:spPr>
          <a:xfrm>
            <a:off x="300024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ight Arrow 25"/>
          <p:cNvSpPr/>
          <p:nvPr/>
        </p:nvSpPr>
        <p:spPr>
          <a:xfrm flipH="1">
            <a:off x="585720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ight Arrow 28"/>
          <p:cNvSpPr/>
          <p:nvPr/>
        </p:nvSpPr>
        <p:spPr>
          <a:xfrm>
            <a:off x="385776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9"/>
          <p:cNvSpPr/>
          <p:nvPr/>
        </p:nvSpPr>
        <p:spPr>
          <a:xfrm flipH="1">
            <a:off x="421416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07196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ight Arrow 31"/>
          <p:cNvSpPr/>
          <p:nvPr/>
        </p:nvSpPr>
        <p:spPr>
          <a:xfrm flipH="1">
            <a:off x="450000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ight Arrow 32"/>
          <p:cNvSpPr/>
          <p:nvPr/>
        </p:nvSpPr>
        <p:spPr>
          <a:xfrm>
            <a:off x="4714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ight Arrow 33"/>
          <p:cNvSpPr/>
          <p:nvPr/>
        </p:nvSpPr>
        <p:spPr>
          <a:xfrm flipH="1">
            <a:off x="5000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ight Arrow 34"/>
          <p:cNvSpPr/>
          <p:nvPr/>
        </p:nvSpPr>
        <p:spPr>
          <a:xfrm>
            <a:off x="507204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ight Arrow 35"/>
          <p:cNvSpPr/>
          <p:nvPr/>
        </p:nvSpPr>
        <p:spPr>
          <a:xfrm flipH="1">
            <a:off x="5429160" y="242892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6"/>
          <p:cNvSpPr/>
          <p:nvPr/>
        </p:nvSpPr>
        <p:spPr>
          <a:xfrm>
            <a:off x="52862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ight Arrow 37"/>
          <p:cNvSpPr/>
          <p:nvPr/>
        </p:nvSpPr>
        <p:spPr>
          <a:xfrm flipH="1">
            <a:off x="57142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ight Arrow 38"/>
          <p:cNvSpPr/>
          <p:nvPr/>
        </p:nvSpPr>
        <p:spPr>
          <a:xfrm>
            <a:off x="5857920" y="207180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ight Arrow 39"/>
          <p:cNvSpPr/>
          <p:nvPr/>
        </p:nvSpPr>
        <p:spPr>
          <a:xfrm flipH="1">
            <a:off x="621432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607212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ight Arrow 41"/>
          <p:cNvSpPr/>
          <p:nvPr/>
        </p:nvSpPr>
        <p:spPr>
          <a:xfrm flipH="1">
            <a:off x="664308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ight Arrow 42"/>
          <p:cNvSpPr/>
          <p:nvPr/>
        </p:nvSpPr>
        <p:spPr>
          <a:xfrm>
            <a:off x="6929280" y="207180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ight Arrow 43"/>
          <p:cNvSpPr/>
          <p:nvPr/>
        </p:nvSpPr>
        <p:spPr>
          <a:xfrm flipH="1">
            <a:off x="7286040" y="242892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4"/>
          <p:cNvSpPr/>
          <p:nvPr/>
        </p:nvSpPr>
        <p:spPr>
          <a:xfrm>
            <a:off x="7143840" y="2214720"/>
            <a:ext cx="142920" cy="142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ight Arrow 45"/>
          <p:cNvSpPr/>
          <p:nvPr/>
        </p:nvSpPr>
        <p:spPr>
          <a:xfrm flipH="1">
            <a:off x="7428960" y="257184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ight Arrow 46"/>
          <p:cNvSpPr/>
          <p:nvPr/>
        </p:nvSpPr>
        <p:spPr>
          <a:xfrm>
            <a:off x="2357280" y="1928880"/>
            <a:ext cx="214560" cy="71280"/>
          </a:xfrm>
          <a:prstGeom prst="rightArrow">
            <a:avLst>
              <a:gd name="adj1" fmla="val 50000"/>
              <a:gd name="adj2" fmla="val 5016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ight Arrow 47"/>
          <p:cNvSpPr/>
          <p:nvPr/>
        </p:nvSpPr>
        <p:spPr>
          <a:xfrm>
            <a:off x="3714840" y="1928880"/>
            <a:ext cx="214200" cy="7128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6"/>
          <p:cNvSpPr/>
          <p:nvPr/>
        </p:nvSpPr>
        <p:spPr>
          <a:xfrm>
            <a:off x="7769160" y="2176560"/>
            <a:ext cx="118764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Arial"/>
              </a:rPr>
              <a:t>B. rapa 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caffol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50"/>
          <p:cNvSpPr/>
          <p:nvPr/>
        </p:nvSpPr>
        <p:spPr>
          <a:xfrm>
            <a:off x="7786800" y="221472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51"/>
          <p:cNvSpPr/>
          <p:nvPr/>
        </p:nvSpPr>
        <p:spPr>
          <a:xfrm>
            <a:off x="7786800" y="2357280"/>
            <a:ext cx="1000080" cy="0"/>
          </a:xfrm>
          <a:prstGeom prst="line">
            <a:avLst/>
          </a:prstGeom>
          <a:ln w="936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9"/>
          <p:cNvSpPr/>
          <p:nvPr/>
        </p:nvSpPr>
        <p:spPr>
          <a:xfrm>
            <a:off x="785880" y="6000840"/>
            <a:ext cx="7643880" cy="2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6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Ordered subset of SOAP2 output, with matching primer pairs highligh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traight Connector 59"/>
          <p:cNvSpPr/>
          <p:nvPr/>
        </p:nvSpPr>
        <p:spPr>
          <a:xfrm>
            <a:off x="50004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traight Connector 60"/>
          <p:cNvSpPr/>
          <p:nvPr/>
        </p:nvSpPr>
        <p:spPr>
          <a:xfrm>
            <a:off x="7786800" y="2286000"/>
            <a:ext cx="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61"/>
          <p:cNvSpPr/>
          <p:nvPr/>
        </p:nvSpPr>
        <p:spPr>
          <a:xfrm>
            <a:off x="14292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14488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62"/>
          <p:cNvSpPr/>
          <p:nvPr/>
        </p:nvSpPr>
        <p:spPr>
          <a:xfrm>
            <a:off x="7429680" y="2657520"/>
            <a:ext cx="714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Arial"/>
              </a:rPr>
              <a:t>3546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4360" y="250920"/>
            <a:ext cx="6191280" cy="1179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Content Placeholder 4" descr="CMap3D.PNG"/>
          <p:cNvPicPr/>
          <p:nvPr/>
        </p:nvPicPr>
        <p:blipFill>
          <a:blip r:embed="rId1"/>
          <a:stretch/>
        </p:blipFill>
        <p:spPr>
          <a:xfrm>
            <a:off x="71280" y="1312920"/>
            <a:ext cx="8859960" cy="5759280"/>
          </a:xfrm>
          <a:prstGeom prst="rect">
            <a:avLst/>
          </a:prstGeom>
          <a:ln w="0">
            <a:noFill/>
          </a:ln>
        </p:spPr>
      </p:pic>
      <p:sp>
        <p:nvSpPr>
          <p:cNvPr id="256" name="Slide Number Placeholder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19ED2-53E2-44BD-A3A4-18C57B5CF6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AU" sz="36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CMap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3E7EC-51BF-4902-842B-8B839DF671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68400" y="1312920"/>
            <a:ext cx="886140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Brassica C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3 map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18 linkage grou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4899 mar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6BEF0-7514-429E-A6A0-BD49B89AC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8D015-0F01-4F43-A6C4-D1A551E526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457200" y="1600200"/>
            <a:ext cx="822960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a lot of useful things you can do with short paired read sequenc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CMap3D to link Brassica genetics and genom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 available at: http://flora.acpfg.com.a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or type ACPFG bioinformatics into Goog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F15C1-FF4C-460C-A809-D0899AB1C2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68360" y="220500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 and promoter discovery: TAG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ass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ome sequencing and ann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genetic and genomic data using CMap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1" descr=""/>
          <p:cNvPicPr/>
          <p:nvPr/>
        </p:nvPicPr>
        <p:blipFill>
          <a:blip r:embed="rId1"/>
          <a:srcRect l="0" t="0" r="56358" b="0"/>
          <a:stretch/>
        </p:blipFill>
        <p:spPr>
          <a:xfrm>
            <a:off x="6753240" y="4540320"/>
            <a:ext cx="2449440" cy="1103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"/>
          <p:cNvPicPr/>
          <p:nvPr/>
        </p:nvPicPr>
        <p:blipFill>
          <a:blip r:embed="rId2"/>
          <a:srcRect l="0" t="0" r="68845" b="0"/>
          <a:stretch/>
        </p:blipFill>
        <p:spPr>
          <a:xfrm>
            <a:off x="34920" y="476280"/>
            <a:ext cx="2521080" cy="7030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959280" y="1440000"/>
            <a:ext cx="2556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ul Berk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uren Bra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ry Cl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minic E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 Pyo H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Imel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mund 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gan McKenz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ri Sti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David Edwa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3"/>
          <a:stretch/>
        </p:blipFill>
        <p:spPr>
          <a:xfrm>
            <a:off x="4179960" y="5859360"/>
            <a:ext cx="2054160" cy="316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4"/>
          <a:stretch/>
        </p:blipFill>
        <p:spPr>
          <a:xfrm>
            <a:off x="250920" y="1500120"/>
            <a:ext cx="1873080" cy="1325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5"/>
          <a:stretch/>
        </p:blipFill>
        <p:spPr>
          <a:xfrm>
            <a:off x="1027080" y="3052800"/>
            <a:ext cx="2033640" cy="1266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6659640" y="5400720"/>
            <a:ext cx="341316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 Marsh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kki Apple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ing Zh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Zoran Boskov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Object 9"/>
          <p:cNvGraphicFramePr/>
          <p:nvPr/>
        </p:nvGraphicFramePr>
        <p:xfrm>
          <a:off x="2143080" y="4645080"/>
          <a:ext cx="1428840" cy="1436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43080" y="4645080"/>
                    <a:ext cx="1428840" cy="14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10" descr=""/>
          <p:cNvPicPr/>
          <p:nvPr/>
        </p:nvPicPr>
        <p:blipFill>
          <a:blip r:embed="rId8"/>
          <a:stretch/>
        </p:blipFill>
        <p:spPr>
          <a:xfrm>
            <a:off x="6786720" y="3720960"/>
            <a:ext cx="18000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1" descr=""/>
          <p:cNvPicPr/>
          <p:nvPr/>
        </p:nvPicPr>
        <p:blipFill>
          <a:blip r:embed="rId9"/>
          <a:stretch/>
        </p:blipFill>
        <p:spPr>
          <a:xfrm>
            <a:off x="455760" y="5213520"/>
            <a:ext cx="1125360" cy="94608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12"/>
          <p:cNvSpPr/>
          <p:nvPr/>
        </p:nvSpPr>
        <p:spPr>
          <a:xfrm>
            <a:off x="6659640" y="1440000"/>
            <a:ext cx="2484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Jacqueline Batl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Xiaowu Wa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rsh Ra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Arial"/>
              </a:rPr>
              <a:t>Kaye Basf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13" descr=""/>
          <p:cNvPicPr/>
          <p:nvPr/>
        </p:nvPicPr>
        <p:blipFill>
          <a:blip r:embed="rId10"/>
          <a:stretch/>
        </p:blipFill>
        <p:spPr>
          <a:xfrm>
            <a:off x="2081160" y="6323040"/>
            <a:ext cx="1548000" cy="463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11"/>
          <a:stretch/>
        </p:blipFill>
        <p:spPr>
          <a:xfrm>
            <a:off x="4191120" y="6286680"/>
            <a:ext cx="11667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aired-end short r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"/>
          <p:cNvSpPr/>
          <p:nvPr/>
        </p:nvSpPr>
        <p:spPr>
          <a:xfrm>
            <a:off x="5943600" y="2154240"/>
            <a:ext cx="114300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044440" y="2163600"/>
            <a:ext cx="1168200" cy="180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200400" y="2154240"/>
            <a:ext cx="274320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948120" y="2241720"/>
            <a:ext cx="1828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95280" y="2708280"/>
            <a:ext cx="82296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llumina GAI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length (35bp – 75b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8680" indent="-328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ert size up to 10K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~ Normal distrib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8640" indent="-2714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0120"/>
                <a:tab algn="l" pos="777960"/>
                <a:tab algn="l" pos="1227240"/>
                <a:tab algn="l" pos="1676520"/>
                <a:tab algn="l" pos="2125800"/>
                <a:tab algn="l" pos="2575080"/>
                <a:tab algn="l" pos="3024360"/>
                <a:tab algn="l" pos="3473280"/>
                <a:tab algn="l" pos="3922560"/>
                <a:tab algn="l" pos="4371840"/>
                <a:tab algn="l" pos="4821120"/>
                <a:tab algn="l" pos="5270400"/>
                <a:tab algn="l" pos="5719680"/>
                <a:tab algn="l" pos="6168960"/>
                <a:tab algn="l" pos="6618240"/>
                <a:tab algn="l" pos="7067520"/>
                <a:tab algn="l" pos="7516800"/>
                <a:tab algn="l" pos="7966080"/>
                <a:tab algn="l" pos="8415360"/>
                <a:tab algn="l" pos="8864640"/>
                <a:tab algn="l" pos="9313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tandard deviation ~ 10% m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 finding and ex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2"/>
          <p:cNvSpPr/>
          <p:nvPr/>
        </p:nvSpPr>
        <p:spPr>
          <a:xfrm>
            <a:off x="2498760" y="3157560"/>
            <a:ext cx="411480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3"/>
          <p:cNvSpPr/>
          <p:nvPr/>
        </p:nvSpPr>
        <p:spPr>
          <a:xfrm flipH="1">
            <a:off x="1112400" y="2700360"/>
            <a:ext cx="57492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4"/>
          <p:cNvSpPr/>
          <p:nvPr/>
        </p:nvSpPr>
        <p:spPr>
          <a:xfrm>
            <a:off x="295596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7435800" y="2700360"/>
            <a:ext cx="549360" cy="936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H="1">
            <a:off x="5457960" y="26906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870360" y="3386160"/>
            <a:ext cx="13716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/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 flipH="1">
            <a:off x="3400560" y="29192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5699160" y="29192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 flipH="1">
            <a:off x="885960" y="246204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2727360" y="2462040"/>
            <a:ext cx="5493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 flipH="1">
            <a:off x="1114200" y="2919240"/>
            <a:ext cx="253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1008000" y="1865160"/>
            <a:ext cx="852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4"/>
          <p:cNvSpPr/>
          <p:nvPr/>
        </p:nvSpPr>
        <p:spPr>
          <a:xfrm>
            <a:off x="669960" y="223344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127160" y="4062240"/>
            <a:ext cx="204840" cy="6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1355760" y="4748040"/>
            <a:ext cx="6400800" cy="2286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3508200" y="5016600"/>
            <a:ext cx="320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omic sequ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4987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6613560" y="360504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709560" y="3646440"/>
            <a:ext cx="852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3252960" y="5816520"/>
            <a:ext cx="318960" cy="2160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95360" y="5767560"/>
            <a:ext cx="944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23"/>
          <p:cNvSpPr/>
          <p:nvPr/>
        </p:nvSpPr>
        <p:spPr>
          <a:xfrm>
            <a:off x="5724360" y="5821200"/>
            <a:ext cx="319320" cy="216000"/>
          </a:xfrm>
          <a:prstGeom prst="roundRect">
            <a:avLst>
              <a:gd name="adj" fmla="val 69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4543560" y="5784840"/>
            <a:ext cx="1171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25"/>
          <p:cNvSpPr/>
          <p:nvPr/>
        </p:nvSpPr>
        <p:spPr>
          <a:xfrm flipH="1">
            <a:off x="6162840" y="5925960"/>
            <a:ext cx="574560" cy="9720"/>
          </a:xfrm>
          <a:prstGeom prst="line">
            <a:avLst/>
          </a:prstGeom>
          <a:ln w="457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2111400" y="6058080"/>
            <a:ext cx="153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abidops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4444920" y="6046920"/>
            <a:ext cx="1370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rassic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57200" y="160020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Gd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17215" t="19127" r="18281" b="12584"/>
          <a:stretch/>
        </p:blipFill>
        <p:spPr>
          <a:xfrm>
            <a:off x="949320" y="1606680"/>
            <a:ext cx="7389720" cy="4889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187200" y="6526080"/>
            <a:ext cx="874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ttp://flora.acpfg.com.au/tagdb/cgi-bin/results?jobID=bK85Lk10fVzMlw5e33FSuYBY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171" descr="primers_a.PNG"/>
          <p:cNvPicPr/>
          <p:nvPr/>
        </p:nvPicPr>
        <p:blipFill>
          <a:blip r:embed="rId1"/>
          <a:stretch/>
        </p:blipFill>
        <p:spPr>
          <a:xfrm>
            <a:off x="285840" y="1911240"/>
            <a:ext cx="857232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484360" y="274680"/>
            <a:ext cx="6202440" cy="1143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xample: AtWD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5" descr="primers_b.PNG"/>
          <p:cNvPicPr/>
          <p:nvPr/>
        </p:nvPicPr>
        <p:blipFill>
          <a:blip r:embed="rId1"/>
          <a:stretch/>
        </p:blipFill>
        <p:spPr>
          <a:xfrm>
            <a:off x="231840" y="1857240"/>
            <a:ext cx="862632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B427B-D2CA-4655-B057-5CE2B4ACD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484360" y="250920"/>
            <a:ext cx="6199200" cy="11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68360" y="1844640"/>
            <a:ext cx="822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rap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olerace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Brassica nigr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3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eat 7D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4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arley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2.9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Pongami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0.45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700"/>
              </a:spcBef>
              <a:tabLst>
                <a:tab algn="l" pos="0"/>
                <a:tab algn="l" pos="333360"/>
                <a:tab algn="l" pos="449280"/>
                <a:tab algn="l" pos="906480"/>
                <a:tab algn="l" pos="1363680"/>
                <a:tab algn="l" pos="1820880"/>
                <a:tab algn="l" pos="2278080"/>
                <a:tab algn="l" pos="2735280"/>
                <a:tab algn="l" pos="3192480"/>
                <a:tab algn="l" pos="3649680"/>
                <a:tab algn="l" pos="4106880"/>
                <a:tab algn="l" pos="4564080"/>
                <a:tab algn="l" pos="5021280"/>
                <a:tab algn="l" pos="5478480"/>
                <a:tab algn="l" pos="5935680"/>
                <a:tab algn="l" pos="6392880"/>
                <a:tab algn="l" pos="6850080"/>
                <a:tab algn="l" pos="7307280"/>
                <a:tab algn="l" pos="7764480"/>
                <a:tab algn="l" pos="8221680"/>
                <a:tab algn="l" pos="8678880"/>
                <a:tab algn="l" pos="9136080"/>
                <a:tab algn="l" pos="942804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Nicotiana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0.2 Gb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9:03:12Z</dcterms:created>
  <dc:creator>Bob</dc:creator>
  <dc:description/>
  <dc:language>en-US</dc:language>
  <cp:lastModifiedBy>GMOD / NESCent</cp:lastModifiedBy>
  <cp:lastPrinted>2009-04-22T19:24:48Z</cp:lastPrinted>
  <dcterms:modified xsi:type="dcterms:W3CDTF">2010-01-21T18:16:17Z</dcterms:modified>
  <cp:revision>178</cp:revision>
  <dc:subject/>
  <dc:title>Main Title</dc:title>
</cp:coreProperties>
</file>